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88C0-4618-4EE0-987E-178CAC727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CDFD-C0AC-46A2-A0AF-81902DCC8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8F8-52C2-475A-8571-9E2D8CB6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3A5-D9EE-4ACF-AF0F-A97B4630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C7D-16E0-4107-8E90-E3C6A62D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E23-CC78-45FC-8B7C-7E981F78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595-74A1-49C8-B979-2BD994B1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3C0-E929-4FD4-9A15-F5591602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374-A81D-4D03-987A-AB343051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281-BCC0-4E0C-915A-C700697F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4C2-FE63-4C3E-AA05-B56BC5B0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0AD-CDAD-4A3A-9BF8-D63C0594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4DA-5DF3-4BAE-8E50-87EDF3AB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2A8-0DA7-4B0A-9082-1177D68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CE0E-BF9E-48E5-9F8F-EFCF3D203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sotros son va a tenemos diversión ma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ñ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52424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Yo soy muy alta. Yo no me gusta molesto gente.  Noureen, Misbah, y Ayat son mis amig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Sí! Yo te cocino un pastel! ¿Qué sabor quieres? Yo tengo chocolate, vainilla, y fresa.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Kiara esta comprand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refrescos.  Jensine esta llegando de Townsend Harris. Ellas son duelce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4 minutes ago Diciembre 6, 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2767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                      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estoy bien. Yo estoy emocionada por miscumpleaños  fiesta mañana!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5 minutes ago Diciembre 6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í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i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648320"/>
            <a:ext cx="51055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quiero delicioso chocolate pastel! Habla con tu mama.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iero ir a un One Direction concierto!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Di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4100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Ok. Pregunto tus padres.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¿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Son Merna y Ema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egan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?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40 minutes ago Diciembre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No, se tienen clase.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909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64832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41008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5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7"/>
          <p:cNvSpPr/>
          <p:nvPr/>
        </p:nvSpPr>
        <p:spPr>
          <a:xfrm>
            <a:off x="152280" y="3581280"/>
            <a:ext cx="152424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  December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5181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146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495680"/>
            <a:ext cx="381240" cy="54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2578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3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2743200" y="32004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39:09Z</dcterms:created>
  <dc:creator>FriscoISD</dc:creator>
  <dc:description/>
  <dc:language>en-US</dc:language>
  <cp:lastModifiedBy>User</cp:lastModifiedBy>
  <dcterms:modified xsi:type="dcterms:W3CDTF">2013-01-02T14:07:27Z</dcterms:modified>
  <cp:revision>163</cp:revision>
  <dc:subject/>
  <dc:title>Profile</dc:title>
</cp:coreProperties>
</file>